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EAEFA3-F6EC-4294-B052-4755E4150F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B662FB-5127-47FE-955E-444CCA592A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7CD52D-1F1B-4755-8987-3387A85397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28822F-A9EE-4475-8A2C-AED8D1343A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4DECE4-224E-44AA-BF4A-0D492BD5F9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B6214F-EC0C-403C-B0B1-946F1BE234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C9B73E-C155-410E-898C-BD37870127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D6DDF4-3D05-4BB5-8228-411855CCAF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A6115F-5438-494E-8A8A-D061D3B937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92075-EA8C-4525-872E-8F5205535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FDD5D-60E8-474F-BFC4-E27EFCE835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B791A-CF63-4AFC-9747-39F4E298CF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5677A-3305-4C2F-AE9A-808E6EB9D66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ilding Construction</a:t>
            </a:r>
            <a:endParaRPr b="0" lang="en-US" sz="44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fire resistive rating (FRR) is given in minutes or hours and relates to how long it takes to burn </a:t>
            </a:r>
            <a:r>
              <a:rPr b="0" i="1" lang="en-US" sz="2400" spc="-1" strike="noStrike">
                <a:solidFill>
                  <a:srgbClr val="000000"/>
                </a:solidFill>
                <a:latin typeface="Calibri"/>
              </a:rPr>
              <a:t>through a given material.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Expressions like </a:t>
            </a:r>
            <a:r>
              <a:rPr b="0" lang="en-US" sz="2400" spc="-1" strike="noStrike">
                <a:solidFill>
                  <a:srgbClr val="000000"/>
                </a:solidFill>
                <a:latin typeface="Calibri"/>
              </a:rPr>
              <a:t>“2-hour fire resistive rating” or “2-hour fire wall” relate to the length of time it takes to burn through types of building material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ame spread rating (FSR) is used with interior finish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SR denotes how long it takes to burn </a:t>
            </a:r>
            <a:r>
              <a:rPr b="0" i="1" lang="en-US" sz="2400" spc="-1" strike="noStrike">
                <a:solidFill>
                  <a:srgbClr val="000000"/>
                </a:solidFill>
                <a:latin typeface="Calibri"/>
              </a:rPr>
              <a:t>across the surface of someth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od</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s and C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e resist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does charring do to a wood struct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s and cons of engineered truss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sonry and Brick</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s and C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e resist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does heat affect masonry and brick construc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eel</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s and C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e resist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does heat affect steel constru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es steel bur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ypsum</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s and C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e resist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gypsum is fire resistant, what allows it to be resista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stics</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s and Cons of plastics in constru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e resist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Exterior Insulation Finishing System (EIF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lass</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s and C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e resist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does heat affect gla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can be done to glass to improve its resista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ilding Codes and Rating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building codes will stipulate the allowable building construction types, fire resistance ratings, and flame spread rating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llowable construction type of a building is directly related to the occupancy of the building, the area per floor, and/or the number of stor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of Fire Rating Standards</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STM E119 - 10a: Standard Test Methods for Fire Tests of Building Construction and Material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xample of testing procedures for determining the fire resistance ratings of construction material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NSI/UL 10B</a:t>
            </a:r>
            <a:r>
              <a:rPr b="0" lang="en-US" sz="3200" spc="-1" strike="noStrike">
                <a:solidFill>
                  <a:srgbClr val="000000"/>
                </a:solidFill>
                <a:latin typeface="Calibri"/>
              </a:rPr>
              <a:t>, Fire Tests of Door Assembli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 of testing procedures for fire door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FPA 220, </a:t>
            </a:r>
            <a:r>
              <a:rPr b="0" i="1" lang="en-US" sz="4000" spc="-1" strike="noStrike">
                <a:solidFill>
                  <a:srgbClr val="000000"/>
                </a:solidFill>
                <a:latin typeface="Calibri"/>
              </a:rPr>
              <a:t>Standard Types of Building Construction</a:t>
            </a:r>
            <a:endParaRPr b="0" lang="en-US" sz="40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FPA 220 defines types of building construction based on the combustibility and the fire resistance rating of a building’s structural element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te: Fire walls, nonbearing exterior walls, nonbearing interior partitions, fire barrier walls, shaft enclosures, and openings in walls, partitions, floors, and roofs are not related to the types of building construction and are regulated by other standards and codes, where appropriat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FPA 220</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ypes of construction defined by the fire resistance rating (in hours) of th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ype I though Type V</a:t>
            </a:r>
            <a:endParaRPr b="0" lang="en-US" sz="24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ype I, Fire Resistive: Consists of precast concrete slabs supported by precast columns and precast girder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ype II, Noncombustible: The weight bearers are generally steel beams and girders. (If the building is Type II (000), the beams and girders are all “unprotected” steel.)</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ype III, Ordinary: Can consist of a mix of materials, including wood and concrete.</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ype IV, Heavy Timber: Construction using heavy timber. To qualify as heavy timber, a wood member must meet a certain thickness requirement.</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ype V, Wood Frame: All-wood construc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 of Construction and Fire Resistance Rating</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example, Type I </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 be Type I (442) or Type I (332)</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th Type I (442):</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hree Arabic numerals in parentheses following the Roman numeral indicate the fire resistance of the exterior bearing walls, structural frame, and floor, respectivel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FPA 5000, Building Construction and Safety Code</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tects building occupants and contents with the latest requirements for construction, protection, and occupancy features needed to minimize danger to life and prope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s complete rules for new construction, building rehab, and safety enforc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national Building Code</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veloped by the International Code Council</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ww.iccsafe.org</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large portion of the International Building Code deals with fire preven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states and jurisdictions have adopted all or parts of the IB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BC and Pennsylvania</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tewide adoption of the following IBC Codes</a:t>
            </a:r>
            <a:endParaRPr b="0" lang="en-US" sz="32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06 International Building Code </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06 International Energy Conservation Code </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06 International Existing Building Code </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06 International Fire Code </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06 International Fuel Gas Code </a:t>
            </a:r>
            <a:endParaRPr b="0" lang="en-US" sz="1800" spc="-1" strike="noStrike">
              <a:solidFill>
                <a:srgbClr val="000000"/>
              </a:solidFill>
              <a:latin typeface="Calibri"/>
            </a:endParaRPr>
          </a:p>
        </p:txBody>
      </p:sp>
      <p:sp>
        <p:nvSpPr>
          <p:cNvPr id="59" name=""/>
          <p:cNvSpPr txBox="1"/>
          <p:nvPr/>
        </p:nvSpPr>
        <p:spPr>
          <a:xfrm>
            <a:off x="5105520" y="2057400"/>
            <a:ext cx="4038480" cy="4525920"/>
          </a:xfrm>
          <a:prstGeom prst="rect">
            <a:avLst/>
          </a:prstGeom>
          <a:noFill/>
          <a:ln w="0">
            <a:noFill/>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06 International Mechanical Code </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06 ICC Performance Code </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06 International Plumbing Code </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06 International Residential Code </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06 International Urban Wildland Interface Cod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5T19:14:42Z</dcterms:created>
  <dc:creator>Janicak</dc:creator>
  <dc:description/>
  <dc:language>en-US</dc:language>
  <cp:lastModifiedBy>Build</cp:lastModifiedBy>
  <dcterms:modified xsi:type="dcterms:W3CDTF">2012-09-11T19:56:27Z</dcterms:modified>
  <cp:revision>16</cp:revision>
  <dc:subject/>
  <dc:title>NFPA 220, Standard Types of Building Construction</dc:title>
</cp:coreProperties>
</file>