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62AD8-2AC9-4056-A6F9-978FB3917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BED84-7CAB-41A0-8606-996F89F16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14A7C-A834-4F02-B3C7-CFD1C5DFD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6BA73-9D4D-4D06-9600-799FF0ADD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6BCAC-927D-4ACF-B8DD-C339A3C6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4D10-5FCF-485B-982C-174A36D9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676B-8C26-4C0D-AD68-FBB4DE46F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CB446-04D8-4768-9571-26CA2E74B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7FDC-2EF0-4ECF-8252-D47AB7F03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B238-E78A-44C6-AEE8-8CB86EBD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25E6-95FA-4755-B51F-AABFC64E6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61EB-8ABB-423A-A9AB-928D6D491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98D2-7B60-4BA0-AFE5-71FD71A8AB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Construc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ire resistive rating (FRR) is given in minutes or hours and relates to how long it takes to burn </a:t>
            </a:r>
            <a:r>
              <a:rPr b="0" i="1" lang="en-US" sz="2400" spc="-1" strike="noStrike">
                <a:solidFill>
                  <a:srgbClr val="000000"/>
                </a:solidFill>
                <a:latin typeface="Calibri"/>
              </a:rPr>
              <a:t>through a given materi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xpressions like </a:t>
            </a:r>
            <a:r>
              <a:rPr b="0" lang="en-US" sz="2400" spc="-1" strike="noStrike">
                <a:solidFill>
                  <a:srgbClr val="000000"/>
                </a:solidFill>
                <a:latin typeface="Calibri"/>
              </a:rPr>
              <a:t>“2-hour fire resistive rating” or “2-hour fire wall” relate to the length of time it takes to burn through types of building materi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ame spread rating (FSR) is used with interior fin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SR denotes how long it takes to burn </a:t>
            </a:r>
            <a:r>
              <a:rPr b="0" i="1" lang="en-US" sz="2400" spc="-1" strike="noStrike">
                <a:solidFill>
                  <a:srgbClr val="000000"/>
                </a:solidFill>
                <a:latin typeface="Calibri"/>
              </a:rPr>
              <a:t>across the surface of some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charring do to a wood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 of engineered tru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onry and Brick</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eat affect masonry and brick constr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el</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eat affect steel co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steel bur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ypsu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gypsum is fire resistant, what allows it to be resis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stic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 of plastics in co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Exterior Insulation Finishing System (E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as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eat affect g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be done to glass to improve its resi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Codes and Rating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uilding codes will stipulate the allowable building construction types, fire resistance ratings, and flame spread rating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llowable construction type of a building is directly related to the occupancy of the building, the area per floor, and/or the number of sto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Fire Rating Standard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TM E119 - 10a: Standard Test Methods for Fire Tests of Building Construction and Materi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ample of testing procedures for determining the fire resistance ratings of construction material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I/UL 10B</a:t>
            </a:r>
            <a:r>
              <a:rPr b="0" lang="en-US" sz="3200" spc="-1" strike="noStrike">
                <a:solidFill>
                  <a:srgbClr val="000000"/>
                </a:solidFill>
                <a:latin typeface="Calibri"/>
              </a:rPr>
              <a:t>, Fire Tests of Door Assembl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testing procedures for fire do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FPA 220, </a:t>
            </a:r>
            <a:r>
              <a:rPr b="0" i="1" lang="en-US" sz="4000" spc="-1" strike="noStrike">
                <a:solidFill>
                  <a:srgbClr val="000000"/>
                </a:solidFill>
                <a:latin typeface="Calibri"/>
              </a:rPr>
              <a:t>Standard Types of Building Construction</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FPA 220 defines types of building construction based on the combustibility and the fire resistance rating of a building’s structural elem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Fire walls, nonbearing exterior walls, nonbearing interior partitions, fire barrier walls, shaft enclosures, and openings in walls, partitions, floors, and roofs are not related to the types of building construction and are regulated by other standards and codes, where appropri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FPA 220</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s of construction defined by the fire resistance rating (in hours) of th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I though Type V</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 Fire Resistive: Consists of precast concrete slabs supported by precast columns and precast girder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I, Noncombustible: The weight bearers are generally steel beams and girders. (If the building is Type II (000), the beams and girders are all “unprotected” ste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II, Ordinary: Can consist of a mix of materials, including wood and concret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V, Heavy Timber: Construction using heavy timber. To qualify as heavy timber, a wood member must meet a certain thickness requireme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V, Wood Frame: All-wood constru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of Construction and Fire Resistance Rating</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Type I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Type I (442) or Type I (332)</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ype I (44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Arabic numerals in parentheses following the Roman numeral indicate the fire resistance of the exterior bearing walls, structural frame, and floor, respective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FPA 5000, Building Construction and Safety Cod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s building occupants and contents with the latest requirements for construction, protection, and occupancy features needed to minimize danger to life and prope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complete rules for new construction, building rehab, and safety e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Building Code</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by the International Code Counci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ww.iccsafe.or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arge portion of the International Building Code deals with fire pre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tates and jurisdictions have adopted all or parts of the IB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BC and Pennsylvania</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wide adoption of the following IBC Codes</a:t>
            </a:r>
            <a:endParaRPr b="0" lang="en-US" sz="3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Building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Energy Conservation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Existing Building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Fire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Fuel Gas Code </a:t>
            </a:r>
            <a:endParaRPr b="0" lang="en-US" sz="1800" spc="-1" strike="noStrike">
              <a:solidFill>
                <a:srgbClr val="000000"/>
              </a:solidFill>
              <a:latin typeface="Calibri"/>
            </a:endParaRPr>
          </a:p>
        </p:txBody>
      </p:sp>
      <p:sp>
        <p:nvSpPr>
          <p:cNvPr id="59" name=""/>
          <p:cNvSpPr txBox="1"/>
          <p:nvPr/>
        </p:nvSpPr>
        <p:spPr>
          <a:xfrm>
            <a:off x="5105520" y="2057400"/>
            <a:ext cx="4038480" cy="4525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Mechanical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CC Performance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Plumbing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Residential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Urban Wildland Interface Co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9:14:42Z</dcterms:created>
  <dc:creator>Janicak</dc:creator>
  <dc:description/>
  <dc:language>en-US</dc:language>
  <cp:lastModifiedBy>Build</cp:lastModifiedBy>
  <dcterms:modified xsi:type="dcterms:W3CDTF">2012-09-11T19:56:27Z</dcterms:modified>
  <cp:revision>16</cp:revision>
  <dc:subject/>
  <dc:title>NFPA 220, Standard Types of Building Construction</dc:title>
</cp:coreProperties>
</file>